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2186-0A8A-4CAD-9F31-D9615CE1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CE68-C7DB-425D-920F-CBCC845B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64D4-3042-4BC6-85DE-0478567A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BCE6-4F79-48A0-A199-2AB12FA3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A8D8-2BB5-4AD1-8797-CDF638FE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4472-159F-4903-877A-F2ADA4F2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6199-DF9C-4498-9E57-F797EE2E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80C2-AB93-43E3-A179-5A4E83CD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62AF-AADF-425E-AD26-E04B5113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E346-074A-4D0B-ABFC-82534C19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03F7-E522-4687-8CFB-7E824A2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9CF1-8EEE-462B-B885-FD55AE08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4267-3438-43E1-AB13-D1CA06F0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EA04-F137-43AF-B35C-88723A40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B709-3E7D-49BB-B5DF-5B480D7C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64C7-1348-40E2-8C3E-ACBC8830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5924-B751-49AD-A836-B3A5C362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95AD-889B-4AF5-94DF-190E8A6E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C515-985F-4809-93C0-09DB6B60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0728-E327-4727-82EE-DFD386DF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1435-EA33-4C6C-8109-CE435FBE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F685-DA27-4BC4-B0EF-7E9C7784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159C-81F0-4E60-A87B-E18B28AD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5154-61F4-4077-8220-A0042EC0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80BE-F480-435F-993A-1EEA0E7FB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A476-4697-47E6-A67E-D6A61B814B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MATEMATİK </a:t>
            </a:r>
            <a:br>
              <a:rPr sz="6000"/>
            </a:b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PROJESİ 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RE ÜZÜMCÜOĞ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/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87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İLGİ BANKAS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PROJENİN ADI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NİN ADI  ‘BİLGİ BANKASI’ 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NİN ŞEKLİ VEYA TİPİ DEĞİLDE, İÇİNDEKİ BİLGİLERE GÖRE BİR İSİM KULLANILMIŞT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APIM AŞAMASI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ÖNCELİKLE İKİ KÜÇÜK, İKİDE BÜYÜK CAM KULLANACAK (KÜÇÜK=10-15 ARA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ÜYÜK=30-40 CM ARAS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 DÖRT CAMI BİRBİRİNE YAPIŞTIRIP BİR DİKDÖRTGEN ŞEKLİ HALİNE ÇEVİRDİKTEN SONRA, YAKLAŞIK 5 VEYE 6 ÇİZGİ ŞEKLİNDE BİRER DELİK AÇARI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 BU DELİKLERİN ARASINA GİRECEK ŞEKİLDE KİTAPTAKİ BİRKAÇ ÜNİTENİN DE ÜZERLERİNDE BULUNDUĞU SERT BİR TABAKAYI İÇERİSİNE YERLEŞTİRİRİZ. (KONU ANLATIMLI ÜNİTEL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ÜZERİNDE BULUNACAK ÜNİTELER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ÜNİ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TAM SAYILARLA İŞLEM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RASYONEL SAYI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DOĞRULAR ve AÇI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ÜNİ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RASYONEL SAYILARLA İŞLEM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CEBİRSEL İFADE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DENKLEM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ÇEMBER ve DAİ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AÇILARI ÖLÇ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KULLANILACAK MALZEMELER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LEM,SİLGİ,RENKLİ KALEM,YAPIŞTIRI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4 KAĞID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T TABAKA (MUKAVVA gib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İLİK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AKLAŞIK GİDER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M=10 T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LEM,SİLGİ,RENKLİ KALEM,YAPIŞTIRICI=3T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4 KAĞIDI=1T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T TABAKA (MUKAVVA gibi)=2T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İLİKON=7T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PL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3 T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1:47:59Z</dcterms:created>
  <dc:creator>emre</dc:creator>
  <dc:description/>
  <dc:language>en-US</dc:language>
  <cp:lastModifiedBy>emre</cp:lastModifiedBy>
  <dcterms:modified xsi:type="dcterms:W3CDTF">2011-01-14T06:41:07Z</dcterms:modified>
  <cp:revision>4</cp:revision>
  <dc:subject/>
  <dc:title>MATEMATİK  PROJESİ </dc:title>
</cp:coreProperties>
</file>